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ADF07-E709-4E71-AC3D-817245D355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B5C-EF79-4297-A9AD-3DC8A8F0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604-FF75-413B-8D6A-F86B741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228-E716-454F-9DD5-1409D593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12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668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12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668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4D8-AA07-4115-B872-3AB47090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33440"/>
            <a:ext cx="82216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819-4BAA-4AB8-AA2D-AE75FC7F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12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668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12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668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8D1-0F34-41CB-8687-CFABFA4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7DF-0BC6-4974-8A86-8951658B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E45-09A0-4B9C-8CBD-0DED713E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33440"/>
            <a:ext cx="82216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5D8-6600-4DDA-9C0F-DAAB208C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1AF-BE10-421D-9B37-D5DAC4B4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FD0-2C69-4217-B502-E3B11820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CB7-D404-4E2F-8D22-1ED5521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159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832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064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93F45093-A879-4E2C-9239-68E53FA2D82D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64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CARI</a:t>
            </a:r>
            <a:r>
              <a:rPr b="0" i="1" lang="en-GB" sz="4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Realtime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 software correlation</a:t>
            </a:r>
            <a:br>
              <a:rPr sz="4000"/>
            </a:b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ico Kruithof, Damien March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3097080" cy="925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3668760"/>
            <a:ext cx="329724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utline of the nod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s the data (at 32 mbps – 1 gbps per s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racts the different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integer delay correc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teger number of sam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ds two bits samples to the correlator nod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o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s samples and converts them to floating poin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forms a fractional delay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cts for the Dopple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es the baselin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pu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rts the data from the correlator nodes and writes it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1B9-E727-4AC1-A59B-C7219335E4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AS-3 / StarPla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73520" y="1749600"/>
            <a:ext cx="4016520" cy="39668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165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-3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rd DAS super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72 dual AMD Opteron compute nodes, spread out over five clusters, located at the four universiti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Plane is the Application Controlled Photonic Network connecting the DAS-3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CD2-E398-463B-A3A7-F3CF016530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</a:t>
            </a:r>
            <a:r>
              <a:rPr b="0" i="1" lang="en-GB" sz="4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 / FABRIC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688080" cy="39625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on with PSNC for data 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E18-87F9-4FF6-AA1E-0129D90D75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33440"/>
            <a:ext cx="82249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uccess Story: FTP Fringe Tes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5481720" cy="38862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49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TP Fringe tests: short slices of an experiment to test equipment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uster running NI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or broke dow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May 2007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FXC was successfull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for the last thre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TP Fring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0CA-0BE3-4447-A74B-407F5D516D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31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Benchmarks on DAS-3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31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0% of realtime (4 telescopes, 256mbps each) on 30 quad-cores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tleneck is CPU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PU's / FPGA'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enhan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192480" y="1828800"/>
            <a:ext cx="57229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367-7A3F-4EDA-9FAE-C0ADA0F749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81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oftware correlator is being used for FTP-Fringe test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utput has been validated and produces similar results as the current hardware correlato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currently benchmarking and optimizing the correlator on the DAS-3 cluster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3000"/>
              </a:lnSpc>
              <a:buNone/>
              <a:tabLst>
                <a:tab algn="l" pos="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co Kruit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3000"/>
              </a:lnSpc>
              <a:buNone/>
              <a:tabLst>
                <a:tab algn="l" pos="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3000"/>
              </a:lnSpc>
              <a:buNone/>
              <a:tabLst>
                <a:tab algn="l" pos="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ruithof@jive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21C-AB79-4949-97DC-4BB35CC66F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LB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correlato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/ Fabri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AR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046-24D4-4456-83D9-4ECEF83D04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Larger dish: higher resolu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5294160"/>
            <a:ext cx="3962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260280" indent="-260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404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cibo, Puerto Rico: b = 30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73520" y="2236680"/>
            <a:ext cx="4016520" cy="299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3200400"/>
            <a:ext cx="457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1652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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λ /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itivity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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λ =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 = diameter tele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899-2D54-40AF-AE01-20B12BBBEC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453960"/>
            <a:ext cx="82281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Westerbork/Very Large A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86200" y="2460600"/>
            <a:ext cx="5029200" cy="348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1276200"/>
            <a:ext cx="3506760" cy="421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590-BDBA-4CB5-A29C-DE21F5AF997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VLBI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02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443-0C76-49BA-8374-F3DF7BD561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rrel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4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bining signals from different telescop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aligning the signal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aying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tch the sig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ion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s the similarity of two sig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gration to enhance the signal to nois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952880" y="139680"/>
            <a:ext cx="3988080" cy="5803920"/>
            <a:chOff x="4952880" y="139680"/>
            <a:chExt cx="3988080" cy="5803920"/>
          </a:xfrm>
        </p:grpSpPr>
        <p:sp>
          <p:nvSpPr>
            <p:cNvPr id="113" name=""/>
            <p:cNvSpPr/>
            <p:nvPr/>
          </p:nvSpPr>
          <p:spPr>
            <a:xfrm>
              <a:off x="6072120" y="3854520"/>
              <a:ext cx="1800" cy="1792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864560" y="3429000"/>
              <a:ext cx="1440" cy="2224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800000">
              <a:off x="5767560" y="3448080"/>
              <a:ext cx="398160" cy="3985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75240" y="3057480"/>
              <a:ext cx="995400" cy="797040"/>
            </a:xfrm>
            <a:custGeom>
              <a:avLst/>
              <a:gdLst/>
              <a:ahLst/>
              <a:rect l="l" t="t" r="r" b="b"/>
              <a:pathLst>
                <a:path w="2766" h="2214">
                  <a:moveTo>
                    <a:pt x="0" y="0"/>
                  </a:moveTo>
                  <a:cubicBezTo>
                    <a:pt x="1106" y="2213"/>
                    <a:pt x="2765" y="509"/>
                    <a:pt x="2765" y="5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660000">
              <a:off x="7667640" y="3056040"/>
              <a:ext cx="398520" cy="3985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6040" y="2658960"/>
              <a:ext cx="995400" cy="797040"/>
            </a:xfrm>
            <a:custGeom>
              <a:avLst/>
              <a:gdLst/>
              <a:ahLst/>
              <a:rect l="l" t="t" r="r" b="b"/>
              <a:pathLst>
                <a:path w="2766" h="2213">
                  <a:moveTo>
                    <a:pt x="0" y="0"/>
                  </a:moveTo>
                  <a:cubicBezTo>
                    <a:pt x="1106" y="2212"/>
                    <a:pt x="2765" y="509"/>
                    <a:pt x="2765" y="5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880240" y="1198080"/>
              <a:ext cx="699840" cy="2297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667120" y="2379600"/>
              <a:ext cx="2601720" cy="806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875360" y="1347840"/>
              <a:ext cx="538200" cy="1714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75280" y="2289240"/>
              <a:ext cx="201600" cy="155520"/>
            </a:xfrm>
            <a:custGeom>
              <a:avLst/>
              <a:gdLst/>
              <a:ahLst/>
              <a:rect l="l" t="t" r="r" b="b"/>
              <a:pathLst>
                <a:path w="559" h="430">
                  <a:moveTo>
                    <a:pt x="558" y="0"/>
                  </a:moveTo>
                  <a:lnTo>
                    <a:pt x="427" y="429"/>
                  </a:lnTo>
                  <a:lnTo>
                    <a:pt x="0" y="296"/>
                  </a:lnTo>
                  <a:lnTo>
                    <a:pt x="0" y="2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7280000">
              <a:off x="6053760" y="1281240"/>
              <a:ext cx="2652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rection of radio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7160000">
              <a:off x="5541120" y="2740680"/>
              <a:ext cx="760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52880" y="3313080"/>
              <a:ext cx="3988080" cy="1565280"/>
            </a:xfrm>
            <a:custGeom>
              <a:avLst/>
              <a:gdLst/>
              <a:ahLst/>
              <a:rect l="l" t="t" r="r" b="b"/>
              <a:pathLst>
                <a:path w="11076" h="4348">
                  <a:moveTo>
                    <a:pt x="0" y="4347"/>
                  </a:moveTo>
                  <a:cubicBezTo>
                    <a:pt x="1413" y="2414"/>
                    <a:pt x="2702" y="1262"/>
                    <a:pt x="4793" y="631"/>
                  </a:cubicBezTo>
                  <a:cubicBezTo>
                    <a:pt x="6885" y="0"/>
                    <a:pt x="9181" y="438"/>
                    <a:pt x="11075" y="1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4235400"/>
              <a:ext cx="99540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4248000"/>
              <a:ext cx="99540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7920" y="4951440"/>
              <a:ext cx="99540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88280" y="4951440"/>
              <a:ext cx="99540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72120" y="5646600"/>
              <a:ext cx="179244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32480" y="5545080"/>
              <a:ext cx="11383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rre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427880" y="730080"/>
              <a:ext cx="379440" cy="123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C31-288D-44C1-AE02-7A1D7DDB0A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216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elay corre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4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d signals from two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ay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ppler shift / Fringe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91120" y="1066680"/>
            <a:ext cx="4844880" cy="5105520"/>
            <a:chOff x="4191120" y="1066680"/>
            <a:chExt cx="4844880" cy="5105520"/>
          </a:xfrm>
        </p:grpSpPr>
        <p:grpSp>
          <p:nvGrpSpPr>
            <p:cNvPr id="136" name=""/>
            <p:cNvGrpSpPr/>
            <p:nvPr/>
          </p:nvGrpSpPr>
          <p:grpSpPr>
            <a:xfrm>
              <a:off x="4191120" y="1066680"/>
              <a:ext cx="4844880" cy="1571760"/>
              <a:chOff x="4191120" y="1066680"/>
              <a:chExt cx="4844880" cy="1571760"/>
            </a:xfrm>
          </p:grpSpPr>
          <p:sp>
            <p:nvSpPr>
              <p:cNvPr id="137" name=""/>
              <p:cNvSpPr/>
              <p:nvPr/>
            </p:nvSpPr>
            <p:spPr>
              <a:xfrm>
                <a:off x="4321080" y="1328760"/>
                <a:ext cx="3929040" cy="1047600"/>
              </a:xfrm>
              <a:custGeom>
                <a:avLst/>
                <a:gdLst/>
                <a:ahLst/>
                <a:rect l="l" t="t" r="r" b="b"/>
                <a:pathLst>
                  <a:path w="10912" h="2910">
                    <a:moveTo>
                      <a:pt x="0" y="1455"/>
                    </a:moveTo>
                    <a:cubicBezTo>
                      <a:pt x="274" y="2182"/>
                      <a:pt x="465" y="2546"/>
                      <a:pt x="728" y="2546"/>
                    </a:cubicBezTo>
                    <a:cubicBezTo>
                      <a:pt x="1097" y="2546"/>
                      <a:pt x="1092" y="1455"/>
                      <a:pt x="1455" y="1455"/>
                    </a:cubicBezTo>
                    <a:cubicBezTo>
                      <a:pt x="1819" y="1455"/>
                      <a:pt x="1819" y="2909"/>
                      <a:pt x="2183" y="2909"/>
                    </a:cubicBezTo>
                    <a:cubicBezTo>
                      <a:pt x="2546" y="2909"/>
                      <a:pt x="2606" y="2182"/>
                      <a:pt x="2910" y="2182"/>
                    </a:cubicBezTo>
                    <a:cubicBezTo>
                      <a:pt x="3214" y="2182"/>
                      <a:pt x="3273" y="2909"/>
                      <a:pt x="3638" y="2909"/>
                    </a:cubicBezTo>
                    <a:cubicBezTo>
                      <a:pt x="4001" y="2909"/>
                      <a:pt x="4001" y="728"/>
                      <a:pt x="4365" y="728"/>
                    </a:cubicBezTo>
                    <a:cubicBezTo>
                      <a:pt x="4728" y="728"/>
                      <a:pt x="4728" y="2182"/>
                      <a:pt x="5092" y="2182"/>
                    </a:cubicBezTo>
                    <a:cubicBezTo>
                      <a:pt x="5456" y="2182"/>
                      <a:pt x="5456" y="0"/>
                      <a:pt x="5819" y="0"/>
                    </a:cubicBezTo>
                    <a:cubicBezTo>
                      <a:pt x="6183" y="0"/>
                      <a:pt x="6183" y="1455"/>
                      <a:pt x="6546" y="1455"/>
                    </a:cubicBezTo>
                    <a:cubicBezTo>
                      <a:pt x="6911" y="1455"/>
                      <a:pt x="6911" y="1455"/>
                      <a:pt x="7274" y="1455"/>
                    </a:cubicBezTo>
                    <a:cubicBezTo>
                      <a:pt x="7638" y="1455"/>
                      <a:pt x="7684" y="0"/>
                      <a:pt x="8001" y="0"/>
                    </a:cubicBezTo>
                    <a:cubicBezTo>
                      <a:pt x="8319" y="0"/>
                      <a:pt x="8365" y="1819"/>
                      <a:pt x="8729" y="1819"/>
                    </a:cubicBezTo>
                    <a:cubicBezTo>
                      <a:pt x="9092" y="1819"/>
                      <a:pt x="9092" y="728"/>
                      <a:pt x="9456" y="728"/>
                    </a:cubicBezTo>
                    <a:cubicBezTo>
                      <a:pt x="9819" y="728"/>
                      <a:pt x="9819" y="0"/>
                      <a:pt x="10184" y="0"/>
                    </a:cubicBezTo>
                    <a:cubicBezTo>
                      <a:pt x="10547" y="0"/>
                      <a:pt x="10547" y="728"/>
                      <a:pt x="10911" y="728"/>
                    </a:cubicBezTo>
                  </a:path>
                </a:pathLst>
              </a:custGeom>
              <a:noFill/>
              <a:ln w="547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1040" y="1238400"/>
                <a:ext cx="4327200" cy="1047600"/>
              </a:xfrm>
              <a:custGeom>
                <a:avLst/>
                <a:gdLst/>
                <a:ahLst/>
                <a:rect l="l" t="t" r="r" b="b"/>
                <a:pathLst>
                  <a:path w="12019" h="2911">
                    <a:moveTo>
                      <a:pt x="0" y="1455"/>
                    </a:moveTo>
                    <a:cubicBezTo>
                      <a:pt x="302" y="2183"/>
                      <a:pt x="511" y="2546"/>
                      <a:pt x="802" y="2546"/>
                    </a:cubicBezTo>
                    <a:cubicBezTo>
                      <a:pt x="1207" y="2546"/>
                      <a:pt x="1202" y="1455"/>
                      <a:pt x="1603" y="1455"/>
                    </a:cubicBezTo>
                    <a:cubicBezTo>
                      <a:pt x="2003" y="1455"/>
                      <a:pt x="2003" y="2910"/>
                      <a:pt x="2404" y="2910"/>
                    </a:cubicBezTo>
                    <a:cubicBezTo>
                      <a:pt x="2804" y="2910"/>
                      <a:pt x="2870" y="2183"/>
                      <a:pt x="3205" y="2183"/>
                    </a:cubicBezTo>
                    <a:cubicBezTo>
                      <a:pt x="3539" y="2183"/>
                      <a:pt x="3605" y="2910"/>
                      <a:pt x="4006" y="2910"/>
                    </a:cubicBezTo>
                    <a:cubicBezTo>
                      <a:pt x="4407" y="2910"/>
                      <a:pt x="4407" y="728"/>
                      <a:pt x="4807" y="728"/>
                    </a:cubicBezTo>
                    <a:cubicBezTo>
                      <a:pt x="5208" y="728"/>
                      <a:pt x="5208" y="2183"/>
                      <a:pt x="5608" y="2183"/>
                    </a:cubicBezTo>
                    <a:cubicBezTo>
                      <a:pt x="6009" y="2183"/>
                      <a:pt x="6009" y="0"/>
                      <a:pt x="6409" y="0"/>
                    </a:cubicBezTo>
                    <a:cubicBezTo>
                      <a:pt x="6810" y="0"/>
                      <a:pt x="6810" y="1455"/>
                      <a:pt x="7211" y="1455"/>
                    </a:cubicBezTo>
                    <a:cubicBezTo>
                      <a:pt x="7612" y="1455"/>
                      <a:pt x="7612" y="1455"/>
                      <a:pt x="8012" y="1455"/>
                    </a:cubicBezTo>
                    <a:cubicBezTo>
                      <a:pt x="8413" y="1455"/>
                      <a:pt x="8464" y="0"/>
                      <a:pt x="8813" y="0"/>
                    </a:cubicBezTo>
                    <a:cubicBezTo>
                      <a:pt x="9163" y="0"/>
                      <a:pt x="9214" y="1819"/>
                      <a:pt x="9614" y="1819"/>
                    </a:cubicBezTo>
                    <a:cubicBezTo>
                      <a:pt x="10015" y="1819"/>
                      <a:pt x="10015" y="728"/>
                      <a:pt x="10416" y="728"/>
                    </a:cubicBezTo>
                    <a:cubicBezTo>
                      <a:pt x="10817" y="728"/>
                      <a:pt x="10817" y="0"/>
                      <a:pt x="11217" y="0"/>
                    </a:cubicBezTo>
                    <a:cubicBezTo>
                      <a:pt x="11618" y="0"/>
                      <a:pt x="11618" y="728"/>
                      <a:pt x="12018" y="728"/>
                    </a:cubicBezTo>
                  </a:path>
                </a:pathLst>
              </a:custGeom>
              <a:noFill/>
              <a:ln w="5472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1120" y="1459080"/>
                <a:ext cx="393480" cy="9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118360" y="1066680"/>
                <a:ext cx="91764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83160" y="1328760"/>
                <a:ext cx="1440" cy="13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52840" y="2506680"/>
                <a:ext cx="3797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191120" y="2898720"/>
              <a:ext cx="4844880" cy="1571760"/>
              <a:chOff x="4191120" y="2898720"/>
              <a:chExt cx="4844880" cy="1571760"/>
            </a:xfrm>
          </p:grpSpPr>
          <p:sp>
            <p:nvSpPr>
              <p:cNvPr id="144" name=""/>
              <p:cNvSpPr/>
              <p:nvPr/>
            </p:nvSpPr>
            <p:spPr>
              <a:xfrm>
                <a:off x="4321080" y="3160800"/>
                <a:ext cx="3929040" cy="1047600"/>
              </a:xfrm>
              <a:custGeom>
                <a:avLst/>
                <a:gdLst/>
                <a:ahLst/>
                <a:rect l="l" t="t" r="r" b="b"/>
                <a:pathLst>
                  <a:path w="10912" h="2910">
                    <a:moveTo>
                      <a:pt x="0" y="1455"/>
                    </a:moveTo>
                    <a:cubicBezTo>
                      <a:pt x="274" y="2182"/>
                      <a:pt x="465" y="2545"/>
                      <a:pt x="728" y="2545"/>
                    </a:cubicBezTo>
                    <a:cubicBezTo>
                      <a:pt x="1097" y="2545"/>
                      <a:pt x="1092" y="1455"/>
                      <a:pt x="1455" y="1455"/>
                    </a:cubicBezTo>
                    <a:cubicBezTo>
                      <a:pt x="1819" y="1455"/>
                      <a:pt x="1819" y="2909"/>
                      <a:pt x="2183" y="2909"/>
                    </a:cubicBezTo>
                    <a:cubicBezTo>
                      <a:pt x="2546" y="2909"/>
                      <a:pt x="2606" y="2182"/>
                      <a:pt x="2910" y="2182"/>
                    </a:cubicBezTo>
                    <a:cubicBezTo>
                      <a:pt x="3214" y="2182"/>
                      <a:pt x="3273" y="2909"/>
                      <a:pt x="3638" y="2909"/>
                    </a:cubicBezTo>
                    <a:cubicBezTo>
                      <a:pt x="4001" y="2909"/>
                      <a:pt x="4001" y="727"/>
                      <a:pt x="4365" y="727"/>
                    </a:cubicBezTo>
                    <a:cubicBezTo>
                      <a:pt x="4728" y="727"/>
                      <a:pt x="4728" y="2182"/>
                      <a:pt x="5092" y="2182"/>
                    </a:cubicBezTo>
                    <a:cubicBezTo>
                      <a:pt x="5456" y="2182"/>
                      <a:pt x="5456" y="0"/>
                      <a:pt x="5819" y="0"/>
                    </a:cubicBezTo>
                    <a:cubicBezTo>
                      <a:pt x="6183" y="0"/>
                      <a:pt x="6183" y="1455"/>
                      <a:pt x="6546" y="1455"/>
                    </a:cubicBezTo>
                    <a:cubicBezTo>
                      <a:pt x="6911" y="1455"/>
                      <a:pt x="6911" y="1455"/>
                      <a:pt x="7274" y="1455"/>
                    </a:cubicBezTo>
                    <a:cubicBezTo>
                      <a:pt x="7638" y="1455"/>
                      <a:pt x="7684" y="0"/>
                      <a:pt x="8001" y="0"/>
                    </a:cubicBezTo>
                    <a:cubicBezTo>
                      <a:pt x="8319" y="0"/>
                      <a:pt x="8365" y="1818"/>
                      <a:pt x="8729" y="1818"/>
                    </a:cubicBezTo>
                    <a:cubicBezTo>
                      <a:pt x="9092" y="1818"/>
                      <a:pt x="9092" y="727"/>
                      <a:pt x="9456" y="727"/>
                    </a:cubicBezTo>
                    <a:cubicBezTo>
                      <a:pt x="9819" y="727"/>
                      <a:pt x="9819" y="0"/>
                      <a:pt x="10184" y="0"/>
                    </a:cubicBezTo>
                    <a:cubicBezTo>
                      <a:pt x="10547" y="0"/>
                      <a:pt x="10547" y="727"/>
                      <a:pt x="10911" y="727"/>
                    </a:cubicBezTo>
                  </a:path>
                </a:pathLst>
              </a:custGeom>
              <a:noFill/>
              <a:ln w="547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16400" y="3022560"/>
                <a:ext cx="4327560" cy="1047960"/>
              </a:xfrm>
              <a:custGeom>
                <a:avLst/>
                <a:gdLst/>
                <a:ahLst/>
                <a:rect l="l" t="t" r="r" b="b"/>
                <a:pathLst>
                  <a:path w="12019" h="2911">
                    <a:moveTo>
                      <a:pt x="0" y="1455"/>
                    </a:moveTo>
                    <a:cubicBezTo>
                      <a:pt x="301" y="2182"/>
                      <a:pt x="510" y="2546"/>
                      <a:pt x="800" y="2546"/>
                    </a:cubicBezTo>
                    <a:cubicBezTo>
                      <a:pt x="1207" y="2546"/>
                      <a:pt x="1201" y="1455"/>
                      <a:pt x="1602" y="1455"/>
                    </a:cubicBezTo>
                    <a:cubicBezTo>
                      <a:pt x="2003" y="1455"/>
                      <a:pt x="2003" y="2910"/>
                      <a:pt x="2403" y="2910"/>
                    </a:cubicBezTo>
                    <a:cubicBezTo>
                      <a:pt x="2804" y="2910"/>
                      <a:pt x="2870" y="2182"/>
                      <a:pt x="3204" y="2182"/>
                    </a:cubicBezTo>
                    <a:cubicBezTo>
                      <a:pt x="3539" y="2182"/>
                      <a:pt x="3605" y="2910"/>
                      <a:pt x="4005" y="2910"/>
                    </a:cubicBezTo>
                    <a:cubicBezTo>
                      <a:pt x="4406" y="2910"/>
                      <a:pt x="4406" y="727"/>
                      <a:pt x="4807" y="727"/>
                    </a:cubicBezTo>
                    <a:cubicBezTo>
                      <a:pt x="5208" y="727"/>
                      <a:pt x="5208" y="2182"/>
                      <a:pt x="5608" y="2182"/>
                    </a:cubicBezTo>
                    <a:cubicBezTo>
                      <a:pt x="6009" y="2182"/>
                      <a:pt x="6009" y="0"/>
                      <a:pt x="6409" y="0"/>
                    </a:cubicBezTo>
                    <a:cubicBezTo>
                      <a:pt x="6810" y="0"/>
                      <a:pt x="6810" y="1455"/>
                      <a:pt x="7210" y="1455"/>
                    </a:cubicBezTo>
                    <a:cubicBezTo>
                      <a:pt x="7611" y="1455"/>
                      <a:pt x="7611" y="1455"/>
                      <a:pt x="8012" y="1455"/>
                    </a:cubicBezTo>
                    <a:cubicBezTo>
                      <a:pt x="8413" y="1455"/>
                      <a:pt x="8463" y="0"/>
                      <a:pt x="8813" y="0"/>
                    </a:cubicBezTo>
                    <a:cubicBezTo>
                      <a:pt x="9162" y="0"/>
                      <a:pt x="9214" y="1819"/>
                      <a:pt x="9614" y="1819"/>
                    </a:cubicBezTo>
                    <a:cubicBezTo>
                      <a:pt x="10015" y="1819"/>
                      <a:pt x="10015" y="727"/>
                      <a:pt x="10415" y="727"/>
                    </a:cubicBezTo>
                    <a:cubicBezTo>
                      <a:pt x="10816" y="727"/>
                      <a:pt x="10816" y="0"/>
                      <a:pt x="11217" y="0"/>
                    </a:cubicBezTo>
                    <a:cubicBezTo>
                      <a:pt x="11618" y="0"/>
                      <a:pt x="11618" y="727"/>
                      <a:pt x="12018" y="727"/>
                    </a:cubicBezTo>
                  </a:path>
                </a:pathLst>
              </a:custGeom>
              <a:noFill/>
              <a:ln w="5472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91120" y="3292560"/>
                <a:ext cx="39348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18360" y="2898720"/>
                <a:ext cx="91764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83160" y="3160800"/>
                <a:ext cx="1440" cy="13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2840" y="4340160"/>
                <a:ext cx="3797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91120" y="4600440"/>
              <a:ext cx="4844880" cy="1571760"/>
              <a:chOff x="4191120" y="4600440"/>
              <a:chExt cx="4844880" cy="1571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321080" y="4862520"/>
                <a:ext cx="3929040" cy="1047600"/>
              </a:xfrm>
              <a:custGeom>
                <a:avLst/>
                <a:gdLst/>
                <a:ahLst/>
                <a:rect l="l" t="t" r="r" b="b"/>
                <a:pathLst>
                  <a:path w="10912" h="2910">
                    <a:moveTo>
                      <a:pt x="0" y="1454"/>
                    </a:moveTo>
                    <a:cubicBezTo>
                      <a:pt x="274" y="2181"/>
                      <a:pt x="465" y="2545"/>
                      <a:pt x="728" y="2545"/>
                    </a:cubicBezTo>
                    <a:cubicBezTo>
                      <a:pt x="1097" y="2545"/>
                      <a:pt x="1092" y="1454"/>
                      <a:pt x="1455" y="1454"/>
                    </a:cubicBezTo>
                    <a:cubicBezTo>
                      <a:pt x="1819" y="1454"/>
                      <a:pt x="1819" y="2909"/>
                      <a:pt x="2183" y="2909"/>
                    </a:cubicBezTo>
                    <a:cubicBezTo>
                      <a:pt x="2546" y="2909"/>
                      <a:pt x="2606" y="2181"/>
                      <a:pt x="2910" y="2181"/>
                    </a:cubicBezTo>
                    <a:cubicBezTo>
                      <a:pt x="3214" y="2181"/>
                      <a:pt x="3273" y="2909"/>
                      <a:pt x="3638" y="2909"/>
                    </a:cubicBezTo>
                    <a:cubicBezTo>
                      <a:pt x="4001" y="2909"/>
                      <a:pt x="4001" y="727"/>
                      <a:pt x="4365" y="727"/>
                    </a:cubicBezTo>
                    <a:cubicBezTo>
                      <a:pt x="4728" y="727"/>
                      <a:pt x="4728" y="2181"/>
                      <a:pt x="5092" y="2181"/>
                    </a:cubicBezTo>
                    <a:cubicBezTo>
                      <a:pt x="5456" y="2181"/>
                      <a:pt x="5456" y="0"/>
                      <a:pt x="5819" y="0"/>
                    </a:cubicBezTo>
                    <a:cubicBezTo>
                      <a:pt x="6183" y="0"/>
                      <a:pt x="6183" y="1454"/>
                      <a:pt x="6546" y="1454"/>
                    </a:cubicBezTo>
                    <a:cubicBezTo>
                      <a:pt x="6911" y="1454"/>
                      <a:pt x="6911" y="1454"/>
                      <a:pt x="7274" y="1454"/>
                    </a:cubicBezTo>
                    <a:cubicBezTo>
                      <a:pt x="7638" y="1454"/>
                      <a:pt x="7684" y="0"/>
                      <a:pt x="8001" y="0"/>
                    </a:cubicBezTo>
                    <a:cubicBezTo>
                      <a:pt x="8319" y="0"/>
                      <a:pt x="8365" y="1818"/>
                      <a:pt x="8729" y="1818"/>
                    </a:cubicBezTo>
                    <a:cubicBezTo>
                      <a:pt x="9092" y="1818"/>
                      <a:pt x="9092" y="727"/>
                      <a:pt x="9456" y="727"/>
                    </a:cubicBezTo>
                    <a:cubicBezTo>
                      <a:pt x="9819" y="727"/>
                      <a:pt x="9819" y="0"/>
                      <a:pt x="10184" y="0"/>
                    </a:cubicBezTo>
                    <a:cubicBezTo>
                      <a:pt x="10547" y="0"/>
                      <a:pt x="10547" y="727"/>
                      <a:pt x="10911" y="727"/>
                    </a:cubicBezTo>
                  </a:path>
                </a:pathLst>
              </a:custGeom>
              <a:noFill/>
              <a:ln w="547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16400" y="4724280"/>
                <a:ext cx="3933720" cy="1047960"/>
              </a:xfrm>
              <a:custGeom>
                <a:avLst/>
                <a:gdLst/>
                <a:ahLst/>
                <a:rect l="l" t="t" r="r" b="b"/>
                <a:pathLst>
                  <a:path w="10928" h="2911">
                    <a:moveTo>
                      <a:pt x="0" y="1455"/>
                    </a:moveTo>
                    <a:cubicBezTo>
                      <a:pt x="273" y="2182"/>
                      <a:pt x="464" y="2545"/>
                      <a:pt x="728" y="2545"/>
                    </a:cubicBezTo>
                    <a:cubicBezTo>
                      <a:pt x="1098" y="2545"/>
                      <a:pt x="1092" y="1455"/>
                      <a:pt x="1457" y="1455"/>
                    </a:cubicBezTo>
                    <a:cubicBezTo>
                      <a:pt x="1821" y="1455"/>
                      <a:pt x="1821" y="2910"/>
                      <a:pt x="2185" y="2910"/>
                    </a:cubicBezTo>
                    <a:cubicBezTo>
                      <a:pt x="2549" y="2910"/>
                      <a:pt x="2609" y="2182"/>
                      <a:pt x="2913" y="2182"/>
                    </a:cubicBezTo>
                    <a:cubicBezTo>
                      <a:pt x="3218" y="2182"/>
                      <a:pt x="3277" y="2910"/>
                      <a:pt x="3642" y="2910"/>
                    </a:cubicBezTo>
                    <a:cubicBezTo>
                      <a:pt x="4006" y="2910"/>
                      <a:pt x="4006" y="727"/>
                      <a:pt x="4371" y="727"/>
                    </a:cubicBezTo>
                    <a:cubicBezTo>
                      <a:pt x="4735" y="727"/>
                      <a:pt x="4735" y="2182"/>
                      <a:pt x="5098" y="2182"/>
                    </a:cubicBezTo>
                    <a:cubicBezTo>
                      <a:pt x="5463" y="2182"/>
                      <a:pt x="5463" y="0"/>
                      <a:pt x="5827" y="0"/>
                    </a:cubicBezTo>
                    <a:cubicBezTo>
                      <a:pt x="6192" y="0"/>
                      <a:pt x="6192" y="1455"/>
                      <a:pt x="6556" y="1455"/>
                    </a:cubicBezTo>
                    <a:cubicBezTo>
                      <a:pt x="6920" y="1455"/>
                      <a:pt x="6920" y="1455"/>
                      <a:pt x="7285" y="1455"/>
                    </a:cubicBezTo>
                    <a:cubicBezTo>
                      <a:pt x="7648" y="1455"/>
                      <a:pt x="7695" y="0"/>
                      <a:pt x="8012" y="0"/>
                    </a:cubicBezTo>
                    <a:cubicBezTo>
                      <a:pt x="8331" y="0"/>
                      <a:pt x="8377" y="1818"/>
                      <a:pt x="8741" y="1818"/>
                    </a:cubicBezTo>
                    <a:cubicBezTo>
                      <a:pt x="9106" y="1818"/>
                      <a:pt x="9106" y="727"/>
                      <a:pt x="9470" y="727"/>
                    </a:cubicBezTo>
                    <a:cubicBezTo>
                      <a:pt x="9834" y="727"/>
                      <a:pt x="9834" y="0"/>
                      <a:pt x="10198" y="0"/>
                    </a:cubicBezTo>
                    <a:cubicBezTo>
                      <a:pt x="10562" y="0"/>
                      <a:pt x="10562" y="727"/>
                      <a:pt x="10927" y="727"/>
                    </a:cubicBezTo>
                  </a:path>
                </a:pathLst>
              </a:custGeom>
              <a:noFill/>
              <a:ln w="5472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91120" y="4994280"/>
                <a:ext cx="39348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18360" y="4600440"/>
                <a:ext cx="91764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83160" y="4862520"/>
                <a:ext cx="1440" cy="13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52840" y="6041880"/>
                <a:ext cx="3797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BF2-C3B5-4087-88A7-85D465A5CC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rrelation fun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4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easure for the similarity of two (relatively shifted) function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s the area under the function obtained by multiplying one signal with the other shifted signa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72080" y="2227320"/>
            <a:ext cx="4014720" cy="30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42F-DED3-4F52-B338-77F8F45C75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431640"/>
            <a:ext cx="8229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esign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1546200"/>
            <a:ext cx="7719840" cy="4397400"/>
            <a:chOff x="914400" y="1546200"/>
            <a:chExt cx="7719840" cy="4397400"/>
          </a:xfrm>
        </p:grpSpPr>
        <p:sp>
          <p:nvSpPr>
            <p:cNvPr id="162" name=""/>
            <p:cNvSpPr/>
            <p:nvPr/>
          </p:nvSpPr>
          <p:spPr>
            <a:xfrm>
              <a:off x="4343400" y="4572000"/>
              <a:ext cx="144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0640" y="2595600"/>
              <a:ext cx="2982960" cy="24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b">
              <a:noAutofit/>
            </a:bodyPr>
            <a:p>
              <a:pPr algn="r"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2640" y="2728800"/>
              <a:ext cx="507960" cy="2984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2743200"/>
              <a:ext cx="507960" cy="2984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9800" y="2754360"/>
              <a:ext cx="507960" cy="2984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76640" y="367812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0800" y="369720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06840" y="369252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367668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7280" y="369720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62640" y="368604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32160" y="3025800"/>
              <a:ext cx="144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32160" y="3027240"/>
              <a:ext cx="44784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32160" y="3027240"/>
              <a:ext cx="895320" cy="66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32160" y="3027240"/>
              <a:ext cx="134136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32160" y="3027240"/>
              <a:ext cx="178920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2160" y="3025800"/>
              <a:ext cx="2236680" cy="65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746520" y="3040200"/>
              <a:ext cx="660240" cy="63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747960" y="3052800"/>
              <a:ext cx="1703520" cy="62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32160" y="3027240"/>
              <a:ext cx="44784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300120" y="3052800"/>
              <a:ext cx="1106280" cy="627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300120" y="3052800"/>
              <a:ext cx="2151000" cy="627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193640" y="3025800"/>
              <a:ext cx="212760" cy="671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195800" y="3052800"/>
              <a:ext cx="1255680" cy="64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32160" y="3027240"/>
              <a:ext cx="895320" cy="66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32160" y="3027240"/>
              <a:ext cx="895320" cy="66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75080" y="3052800"/>
              <a:ext cx="298440" cy="639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642920" y="3052800"/>
              <a:ext cx="808200" cy="639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32160" y="3027240"/>
              <a:ext cx="134136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75080" y="3052800"/>
              <a:ext cx="746280" cy="62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089320" y="3052800"/>
              <a:ext cx="361800" cy="62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32160" y="3027240"/>
              <a:ext cx="178920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75080" y="3027240"/>
              <a:ext cx="1193760" cy="65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19800" y="3052800"/>
              <a:ext cx="149040" cy="63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27480" y="4432320"/>
              <a:ext cx="298440" cy="29844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32160" y="3976560"/>
              <a:ext cx="104292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0000" y="3976560"/>
              <a:ext cx="59688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27480" y="3995640"/>
              <a:ext cx="149400" cy="438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040" y="3990960"/>
              <a:ext cx="361800" cy="442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343040" y="3994200"/>
              <a:ext cx="809640" cy="438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44480" y="3983040"/>
              <a:ext cx="1256040" cy="44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0240" y="1828800"/>
              <a:ext cx="1347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lescop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0240" y="2724120"/>
              <a:ext cx="13734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put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14400" y="3684600"/>
              <a:ext cx="1879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rrelator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4400" y="4440240"/>
              <a:ext cx="14367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utput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3997440"/>
              <a:ext cx="22334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rting and merg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3600" y="3200400"/>
              <a:ext cx="2690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 and channel sl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4800" y="5257800"/>
              <a:ext cx="457200" cy="6858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97400" y="22096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32400" y="2251080"/>
              <a:ext cx="1440" cy="49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27560" y="2251080"/>
              <a:ext cx="1440" cy="49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2971800" y="1546200"/>
              <a:ext cx="73980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5203800" y="1546200"/>
              <a:ext cx="73980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4114800" y="1546200"/>
              <a:ext cx="73980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526-FA9E-43F5-8B4C-7CC0CC79B2D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